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69D-F55F-46E9-A859-501AFAB0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AB6F-82E9-4B2B-AA20-E43248CA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580-F43E-47EE-A57E-EDBC9AC2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D535-F57F-483E-B586-3549F105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4C43-FFAD-4671-AC94-E860F50E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2B7A-2BAA-4B6E-BD69-C859B312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BE52-5200-48EA-A69A-9964E9B5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79E2-7F38-497B-A7A7-EEED880D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A7E9-7037-48E8-8D4B-DA161001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1618-65FD-42A7-A4BA-8B96CD4F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8C43-7952-41B3-B3F3-ADD028C1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CD3-1CB4-456B-9849-4979608B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73C3-8C77-4CC2-AC9A-CBD084B9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16C5-104A-455C-8E31-FE30159A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421D-3DEE-4AE2-8941-81B8FCF9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39C2-59B3-421E-95A3-13FE44AB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0FFD-4C72-4C8D-8AAB-4FFDD351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E56-B7BB-4E88-A4AF-35C3B9BF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A1B4-B27C-4601-91B2-1204C32F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82E-1EF5-4884-9BAD-96546E3B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167C-CD90-4C8B-82B8-52739902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C04B-B9E0-49FD-A78A-B3D1D2B2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402-AC87-44BB-84A2-DF3093E9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D504-2C8B-471A-964E-ABCFDF73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E964-A2FE-41A5-9900-5B7CA31031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CE9A-0B6D-4E09-AD5E-A7A98E8811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51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333399"/>
                </a:solidFill>
                <a:latin typeface="Tahoma"/>
              </a:rPr>
              <a:t>Základní škola a Mateřská škola </a:t>
            </a:r>
            <a:br>
              <a:rPr sz="2000"/>
            </a:br>
            <a:r>
              <a:rPr b="1" lang="cs-CZ" sz="2000" spc="-1" strike="noStrike">
                <a:solidFill>
                  <a:srgbClr val="333399"/>
                </a:solidFill>
                <a:latin typeface="Tahoma"/>
              </a:rPr>
              <a:t>při nemocnici Ústí nad Orlicí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333399"/>
                </a:solidFill>
                <a:latin typeface="Tahoma"/>
              </a:rPr>
              <a:t>si Vás dovoluje 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333399"/>
                </a:solidFill>
                <a:latin typeface="Tahoma"/>
              </a:rPr>
              <a:t>pozvat na </a:t>
            </a:r>
            <a:br>
              <a:rPr sz="2000"/>
            </a:br>
            <a:br>
              <a:rPr sz="1600"/>
            </a:b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„Živé kreslení a hádání veselých obrázků </a:t>
            </a:r>
            <a:br>
              <a:rPr sz="2400"/>
            </a:b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s malířem Janem Honzou Lušovským“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ahoma"/>
              </a:rPr>
              <a:t>konané dne 28. dubna 2009</a:t>
            </a:r>
            <a:br>
              <a:rPr sz="2000"/>
            </a:br>
            <a:r>
              <a:rPr b="0" lang="cs-CZ" sz="2000" spc="-1" strike="noStrike">
                <a:solidFill>
                  <a:srgbClr val="333399"/>
                </a:solidFill>
                <a:latin typeface="Tahoma"/>
              </a:rPr>
              <a:t>v 10 hod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ahoma"/>
              </a:rPr>
              <a:t>na dětském oddělení větších dětí Orlickoústecké nemoc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ahoma"/>
              </a:rPr>
              <a:t>za podpory města </a:t>
            </a:r>
            <a:r>
              <a:rPr b="1" lang="cs-CZ" sz="2000" spc="-1" strike="noStrike">
                <a:solidFill>
                  <a:srgbClr val="333399"/>
                </a:solidFill>
                <a:latin typeface="Tahoma"/>
              </a:rPr>
              <a:t>Ústí nad Orlic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740720" y="5373720"/>
            <a:ext cx="777960" cy="934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2176560" cy="202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0:55:24Z</dcterms:created>
  <dc:creator>ZŠ a MŠ při nemocnici</dc:creator>
  <dc:description/>
  <dc:language>en-US</dc:language>
  <cp:lastModifiedBy>ZŠ a MŠ při nemocnici</cp:lastModifiedBy>
  <dcterms:modified xsi:type="dcterms:W3CDTF">2009-04-20T11:21:21Z</dcterms:modified>
  <cp:revision>2</cp:revision>
  <dc:subject/>
  <dc:title>Základní škola a Mateřská škola při nemocnici Ústí nad Orlicí  si Vás dovoluje   dne 28. dubna 2009 v 10 hod. pozvat na   „Živé kreslení a hádání veselých obrázků s malířem Janem Honzou Lušovským“</dc:title>
</cp:coreProperties>
</file>