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2515-A5F4-4D8B-B79E-1B3E9102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65A5-8439-47E5-80AB-E787BFF4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2AE3-0740-4138-BE04-B0714F95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83C4-3141-4F9A-BE3D-5CA34D31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6716-F339-4F4E-8456-C1DC9156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7C76-10DD-4A28-875A-90B4DF09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B588-5FEC-467B-9A14-8C566EA4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3787-F3CA-4BE1-99E6-8EC711A9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D14C-A2FC-4674-9643-B828C41A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567C-EBE9-4CBC-AC66-A632AFD3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0643-CDEC-4F59-A5E2-1AD4148D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101-7DCB-4B22-A4F2-E28C8BF2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FDD2-222E-47EE-A620-D826B61E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CB21-349A-4807-A8A1-DDA818B6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FFD3-4495-4A5D-A0DF-886C8365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20E9-4881-484E-A5BC-DC683AC9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1D88-E952-4CE6-AE8A-4C217A0B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9A4-9542-41AE-A71F-A8FEA88B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A14-3642-4D8B-842D-6A536BD5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0D48-39B8-4D5B-A1D3-A8C185BA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E744-5E0C-40E9-B972-DC00EF5B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47CD-8108-47BA-A8A2-F98403E6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B3A7-E52D-4884-BC13-01144856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29C0-F3C5-4E30-9B21-E8E9BC04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E08C-5F25-4E2F-9F73-D394E94E7B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0BAD-797A-444B-96E6-A468260097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151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333399"/>
                </a:solidFill>
                <a:latin typeface="Tahoma"/>
              </a:rPr>
              <a:t>Základní škola a Mateřská škola </a:t>
            </a:r>
            <a:br>
              <a:rPr sz="2000"/>
            </a:br>
            <a:r>
              <a:rPr b="1" lang="cs-CZ" sz="2000" spc="-1" strike="noStrike">
                <a:solidFill>
                  <a:srgbClr val="333399"/>
                </a:solidFill>
                <a:latin typeface="Tahoma"/>
              </a:rPr>
              <a:t>při nemocnici Ústí nad Orlicí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333399"/>
                </a:solidFill>
                <a:latin typeface="Tahoma"/>
              </a:rPr>
              <a:t>si Vás dovoluje 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333399"/>
                </a:solidFill>
                <a:latin typeface="Tahoma"/>
              </a:rPr>
              <a:t>pozvat na </a:t>
            </a:r>
            <a:br>
              <a:rPr sz="2000"/>
            </a:br>
            <a:br>
              <a:rPr sz="1600"/>
            </a:b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„Živé kreslení a hádání veselých obrázků </a:t>
            </a:r>
            <a:br>
              <a:rPr sz="2400"/>
            </a:b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s malířem Janem Honzou Lušovským“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ahoma"/>
              </a:rPr>
              <a:t>konané dne 28. dubna 2009</a:t>
            </a:r>
            <a:br>
              <a:rPr sz="2000"/>
            </a:br>
            <a:r>
              <a:rPr b="0" lang="cs-CZ" sz="2000" spc="-1" strike="noStrike">
                <a:solidFill>
                  <a:srgbClr val="333399"/>
                </a:solidFill>
                <a:latin typeface="Tahoma"/>
              </a:rPr>
              <a:t>v 10 hod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ahoma"/>
              </a:rPr>
              <a:t>na dětském oddělení větších dětí Orlickoústecké nemoc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ahoma"/>
              </a:rPr>
              <a:t>za podpory města </a:t>
            </a:r>
            <a:r>
              <a:rPr b="1" lang="cs-CZ" sz="2000" spc="-1" strike="noStrike">
                <a:solidFill>
                  <a:srgbClr val="333399"/>
                </a:solidFill>
                <a:latin typeface="Tahoma"/>
              </a:rPr>
              <a:t>Ústí nad Orlic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740720" y="5373720"/>
            <a:ext cx="777960" cy="934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2176560" cy="202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0:55:24Z</dcterms:created>
  <dc:creator>ZŠ a MŠ při nemocnici</dc:creator>
  <dc:description/>
  <dc:language>en-US</dc:language>
  <cp:lastModifiedBy>ZŠ a MŠ při nemocnici</cp:lastModifiedBy>
  <dcterms:modified xsi:type="dcterms:W3CDTF">2009-04-20T11:21:21Z</dcterms:modified>
  <cp:revision>2</cp:revision>
  <dc:subject/>
  <dc:title>Základní škola a Mateřská škola při nemocnici Ústí nad Orlicí  si Vás dovoluje   dne 28. dubna 2009 v 10 hod. pozvat na   „Živé kreslení a hádání veselých obrázků s malířem Janem Honzou Lušovským“</dc:title>
</cp:coreProperties>
</file>